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2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2069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20574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2069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42069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20574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20574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2069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42069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42069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FC1-E716-46F3-9B49-FF2C8C05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F86-B826-43F5-A82A-99AC3FE2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1BD-FFA3-4CA4-9623-387B7190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20574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8F7-AD27-452B-9CDC-A19B6999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C3F-2CD9-401B-963E-2F137E7B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91440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5C6-1480-45E2-B07B-D7FABFCE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20574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42069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762-7765-402B-AD11-52156E18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20574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42069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12E3-A981-4E4A-9F13-7495CCB7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20574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2069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C2D5-38C4-4011-9287-557C0116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42069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594-2F2E-4B5C-AA28-1E43B449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20574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42069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42069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C8E-D858-43C6-B54B-60079AE1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20574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20574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42069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42069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42069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7A9-D163-4D95-99DD-A66DD583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20574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91440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20574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2069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20574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42069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20574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2069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31428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080" indent="-27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552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27160" y="258840"/>
            <a:ext cx="7635960" cy="398880"/>
          </a:xfrm>
          <a:prstGeom prst="rect">
            <a:avLst/>
          </a:prstGeom>
          <a:noFill/>
          <a:ln cap="rnd" w="38160">
            <a:solidFill>
              <a:srgbClr val="906d5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ff9900"/>
                </a:solidFill>
                <a:latin typeface="隶书"/>
                <a:ea typeface="隶书"/>
              </a:rPr>
              <a:t>13</a:t>
            </a:r>
            <a:r>
              <a:rPr b="1" lang="zh-CN" sz="2000" spc="-1" strike="noStrike">
                <a:solidFill>
                  <a:srgbClr val="ff9900"/>
                </a:solidFill>
                <a:latin typeface="隶书"/>
                <a:ea typeface="隶书"/>
              </a:rPr>
              <a:t>章  配置</a:t>
            </a:r>
            <a:r>
              <a:rPr b="1" lang="en-US" sz="2000" spc="-1" strike="noStrike">
                <a:solidFill>
                  <a:srgbClr val="ff9900"/>
                </a:solidFill>
                <a:latin typeface="隶书"/>
                <a:ea typeface="隶书"/>
              </a:rPr>
              <a:t>DHCP</a:t>
            </a:r>
            <a:r>
              <a:rPr b="1" lang="en-US" sz="2000" spc="-1" strike="noStrike">
                <a:solidFill>
                  <a:srgbClr val="ff9900"/>
                </a:solidFill>
                <a:latin typeface="隶书"/>
                <a:ea typeface="隶书"/>
              </a:rPr>
              <a:t>、</a:t>
            </a:r>
            <a:r>
              <a:rPr b="1" lang="en-US" sz="2000" spc="-1" strike="noStrike">
                <a:solidFill>
                  <a:srgbClr val="ff9900"/>
                </a:solidFill>
                <a:latin typeface="隶书"/>
                <a:ea typeface="隶书"/>
              </a:rPr>
              <a:t>WINS</a:t>
            </a:r>
            <a:r>
              <a:rPr b="1" lang="zh-CN" sz="2000" spc="-1" strike="noStrike">
                <a:solidFill>
                  <a:srgbClr val="ff9900"/>
                </a:solidFill>
                <a:latin typeface="隶书"/>
                <a:ea typeface="隶书"/>
              </a:rPr>
              <a:t>和</a:t>
            </a:r>
            <a:r>
              <a:rPr b="1" lang="en-US" sz="2000" spc="-1" strike="noStrike">
                <a:solidFill>
                  <a:srgbClr val="ff9900"/>
                </a:solidFill>
                <a:latin typeface="隶书"/>
                <a:ea typeface="隶书"/>
              </a:rPr>
              <a:t>DNS</a:t>
            </a:r>
            <a:r>
              <a:rPr b="1" lang="en-US" sz="2000" spc="-1" strike="noStrike">
                <a:solidFill>
                  <a:srgbClr val="ff9900"/>
                </a:solidFill>
                <a:latin typeface="隶书"/>
                <a:ea typeface="隶书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495360"/>
            <a:ext cx="1218960" cy="0"/>
          </a:xfrm>
          <a:prstGeom prst="line">
            <a:avLst/>
          </a:prstGeom>
          <a:ln cap="rnd" w="936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6857640" y="495360"/>
            <a:ext cx="1219320" cy="0"/>
          </a:xfrm>
          <a:prstGeom prst="line">
            <a:avLst/>
          </a:prstGeom>
          <a:ln cap="rnd" w="936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7B9D-9E37-4F34-B161-56DEE97A5F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0.xml"/><Relationship Id="rId5" Type="http://schemas.openxmlformats.org/officeDocument/2006/relationships/slide" Target="slide40.xml"/><Relationship Id="rId6" Type="http://schemas.openxmlformats.org/officeDocument/2006/relationships/slide" Target="slide40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宋体"/>
              </a:rPr>
              <a:t>第</a:t>
            </a:r>
            <a:r>
              <a:rPr b="1" lang="zh-CN" sz="3600" spc="-1" strike="noStrike">
                <a:solidFill>
                  <a:srgbClr val="3694b6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3694b6"/>
                </a:solidFill>
                <a:latin typeface="宋体"/>
              </a:rPr>
              <a:t>章  配置</a:t>
            </a:r>
            <a:r>
              <a:rPr b="1" lang="en-US" sz="3600" spc="-1" strike="noStrike">
                <a:solidFill>
                  <a:srgbClr val="3694b6"/>
                </a:solidFill>
                <a:latin typeface="宋体"/>
              </a:rPr>
              <a:t>DHCP</a:t>
            </a:r>
            <a:r>
              <a:rPr b="1" lang="en-US" sz="3600" spc="-1" strike="noStrike">
                <a:solidFill>
                  <a:srgbClr val="3694b6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3694b6"/>
                </a:solidFill>
                <a:latin typeface="宋体"/>
              </a:rPr>
              <a:t>WINS</a:t>
            </a:r>
            <a:r>
              <a:rPr b="1" lang="zh-CN" sz="3600" spc="-1" strike="noStrike">
                <a:solidFill>
                  <a:srgbClr val="3694b6"/>
                </a:solidFill>
                <a:latin typeface="宋体"/>
              </a:rPr>
              <a:t>和</a:t>
            </a:r>
            <a:r>
              <a:rPr b="1" lang="en-US" sz="3600" spc="-1" strike="noStrike">
                <a:solidFill>
                  <a:srgbClr val="3694b6"/>
                </a:solidFill>
                <a:latin typeface="宋体"/>
              </a:rPr>
              <a:t>DNS</a:t>
            </a:r>
            <a:r>
              <a:rPr b="1" lang="en-US" sz="3600" spc="-1" strike="noStrike">
                <a:solidFill>
                  <a:srgbClr val="3694b6"/>
                </a:solidFill>
                <a:latin typeface="宋体"/>
              </a:rPr>
              <a:t>	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438280"/>
            <a:ext cx="6400800" cy="281952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13.1 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DHCP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服务器的安装与设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13.2 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WINS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服务器的安装与设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3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服务器的安装与设置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50532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33.2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876560" cy="3745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52480" y="5562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“动态主机配置协议”组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3.4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DNS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的其他重要设置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904760" y="2209320"/>
            <a:ext cx="6095880" cy="221004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转发器的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指定根域的服务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动态更新的设置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设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的设置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41964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30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786120" cy="41623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786000" y="1143000"/>
            <a:ext cx="60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6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“转发器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41964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31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786120" cy="41626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743200" y="5791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6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“根目录提示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4196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32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3941640" cy="44960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283080" y="1066680"/>
            <a:ext cx="1033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6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态更新的设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53376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33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3830760" cy="44197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359400" y="1066680"/>
            <a:ext cx="1033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6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设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44808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34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218120" cy="4647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59400" y="1143000"/>
            <a:ext cx="10335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66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的设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8880" y="6172200"/>
            <a:ext cx="129564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619760" cy="36576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1" action="ppaction://hlinksldjump"/>
          </p:cNvPr>
          <p:cNvSpPr/>
          <p:nvPr/>
        </p:nvSpPr>
        <p:spPr>
          <a:xfrm>
            <a:off x="7238880" y="6172200"/>
            <a:ext cx="167652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endshow"/>
          </p:cNvPr>
          <p:cNvSpPr/>
          <p:nvPr/>
        </p:nvSpPr>
        <p:spPr>
          <a:xfrm>
            <a:off x="5920560" y="6188040"/>
            <a:ext cx="78876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授权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H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执行授权的工作时，依次选择“开始”→“程序”→“管理工具”→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项，将出现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画面。用鼠标右键单击要授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，并从弹出的快捷菜单中选择“授权”命令即可，结果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45276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33.3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7086600" cy="2593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66880" y="49528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未经授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44340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33.4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086600" cy="2808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66880" y="5257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经授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2640" y="1066680"/>
            <a:ext cx="7467480" cy="518184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建立可用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“开始”→“程序”→“管理工具”→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，选择“新建作用域”命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“欢迎使用新建作用域向导”对话框时，单击“下一步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对话框时，单击“下一步”按钮，当出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对话框时，进行设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果不想提供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端使用，将这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删除。单击“下一步”按钮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472428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址的租用期限，然后单击“下一步”按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对话框时，选择“是，我想现在配置这些选项”，然后单击“下一步”按钮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输入默认网关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址，单击“添加”按钮，然后再单击“下一步”按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对话框时，输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服务器的名称与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址，然后单击“解析”按钮让其自动查询这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服务器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80988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对话框时，请输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服务器的名称与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址，单击“解析”按钮让它自动查询这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服务器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对话框时，选择“是，我想现在激活此作用域”，开始激活该新的作用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出现“完成建立作用域向导”对话框时，请单击“完成”按钮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完成后的画面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6232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33.5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38880" cy="2351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09680" y="4952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5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3717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33.6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781520" cy="366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14600" y="5486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作用域的名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3717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33.7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5486400" cy="4202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0512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可供使用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址与子网掩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本章学习目标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81080" y="2209320"/>
            <a:ext cx="6019920" cy="213372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器的安装与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器的安装与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器的安装与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6172200"/>
            <a:ext cx="167652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3717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33.8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705200" cy="3603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0" y="5715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排除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717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33.9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486400" cy="4201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90920" y="5638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9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租约期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3717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33.10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486400" cy="4202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676520" y="5867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是否配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3717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33.11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552920" cy="3487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5715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客户端使用的网关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3717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33.12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705200" cy="3603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52480" y="5791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客户端使用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3717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33.13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476600" cy="3429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52480" y="5791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客户端使用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13380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33.14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638960" cy="3564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981080" y="56386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活此作用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1932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33.15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629400" cy="2786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057400" y="5486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5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分配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619760" cy="381024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修改、停用、协调与删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先在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~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制台”窗口中，单击要处理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域，然后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协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删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停止、启动、暂停、恢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先在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~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台”窗口中，单击要处理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，然后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停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暂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恢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1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DHCP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服务器的安装与设置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2362320"/>
            <a:ext cx="6553440" cy="27432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.1.1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运行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.1.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工作原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.1.3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的安装与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.1.4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端的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6172200"/>
            <a:ext cx="167652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保留特定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制台”窗口中，用鼠标右键单击，并从弹出的快捷菜单中选择“保留”→“新建保留”命令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对话框时，进行以下设置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输入完成后单击“添加”按钮与“关闭”按钮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完成后的画面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57660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33.18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890880" cy="3705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146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6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保留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1932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33.19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781680" cy="2851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981080" y="5257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保留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鼠标右键单击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“作用域选项”，选择“配置选项”命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画面时，选择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0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”，然后输入或修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，单击“添加”按钮。完成后单击“确定”按钮即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9433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33.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7162560" cy="3016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05120" y="5486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0" y="5791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域选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836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33.22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354636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41964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33.24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917880" cy="4209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38280" y="57150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端自行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6172200"/>
            <a:ext cx="129564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1.4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DHCP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客户端的设置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择“开始”→“设置”→“网络和拨号连接”选项，并用鼠标右键单击“本地连接”，然后从弹出的快捷菜单中选择“属性”→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协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”→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属性”→“自动获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”，将该计算机设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端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是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 9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上，则通过依次选择“开始”→“设置”→“控制面板”→“网络”→“配置”→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协议”→“属性”→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”→“自动获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”选项，将该计算机设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端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41964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33.21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895560" cy="3751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47920" y="5638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1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端的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5053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33.25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3584520" cy="3905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37160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 9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端的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6172200"/>
            <a:ext cx="129564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1.1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DHCP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的运行方式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8862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永久租用：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端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租用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后，这个地址就永远分派给这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端使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限定租期：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端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租用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后，暂时以使用这个地址一段时间。如果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端之后又需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，它可以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重新租用另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6172200"/>
            <a:ext cx="129564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2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WINS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服务器的安装与设置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04760" y="2209320"/>
            <a:ext cx="6553080" cy="350532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2.1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运行原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2.2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服务的安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2.3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服务器的选项设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2.4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服务器数据库的管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2.5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HMOST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6172200"/>
            <a:ext cx="167652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2.1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WINS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的运行原理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6172200" cy="198108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客户端注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客户端查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客户端更新其名称数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6172200"/>
            <a:ext cx="129564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2.2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WINS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服务的安装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“开始”→“设置”→“控制面板”→“添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删除程序”→“添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删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件”命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对话框时，选择“网络服务”→“详细信息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对话框时，选择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 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称服务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单击“确定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返回前一个对话框，单击“下一步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9096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3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5367600" cy="3917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5120" y="5638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3 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件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907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3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862520" cy="3741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371600" y="5715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 Intern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称服务”组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38862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I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客户端的设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“开始”→“设置”→“网络和拨号连接”选项，并用鼠标右键单击“本地连接” 中选择“属性”→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协议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”→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属性”→“高级”→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S”→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”，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；如果选择“开始”→“设置”→“控制面板”→“网络”→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讯协议”→“属性”→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配置”，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62412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3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949560" cy="426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447920" y="57913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5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6100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3.5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4109760" cy="4476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828800" y="5791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6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 9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查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器数据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身份从服务器登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通过选择“开始”→“程序”→“管理工具”→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S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项，出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2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画面。选择“按名称查找命令”，出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对话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活动注册” 中选择“按所有者寻找”命令，在出现的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话框中，选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，然后单击“立即查找”按钮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335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3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995880" cy="23194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09680" y="5029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7 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S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1.2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DHCP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的工作原理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6476760" cy="335268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H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器索取新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发现阶段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DISCOV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提供阶段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OFF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阶段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REQUE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确认阶段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AC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7004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3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553080" cy="3114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133720" y="5334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名称查找”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8335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3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553080" cy="3036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76520" y="5257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Z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母开头的计算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33720" y="56386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30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所有者查找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62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3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4197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83356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3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324840" cy="3360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828800" y="5486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3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服务器中的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6172200"/>
            <a:ext cx="129564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2.3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WINS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服务器的选项设置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7760" y="2285640"/>
            <a:ext cx="3886200" cy="243828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常规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间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库验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高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61476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3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038480" cy="4419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784920" y="1523880"/>
            <a:ext cx="546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32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规”选项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6529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30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232160" cy="4648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923160" y="1600200"/>
            <a:ext cx="546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3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隔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63384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31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259160" cy="4648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557400" y="1143000"/>
            <a:ext cx="911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34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库验证”选项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63852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32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768840" cy="4114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819520" y="5715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3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级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6172200"/>
            <a:ext cx="129564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2.4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WINS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服务器数据库的管理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0" y="2209680"/>
            <a:ext cx="5029200" cy="236232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清理数据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备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恢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库的重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6172200"/>
            <a:ext cx="129564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828800" y="2209320"/>
            <a:ext cx="5410080" cy="213372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更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址的租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端重新启动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租约期过一半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2.5  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使用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LHMOSTS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文件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6858000" cy="25146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MHOS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适用于网络上没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的环境，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网络内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MHOS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也是用来解决名称解析问题的方法之一，同时，也可以用来解决名称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对照的问题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6172200"/>
            <a:ext cx="129564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3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DNS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服务器的安装与设置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160" y="2209320"/>
            <a:ext cx="6553080" cy="304812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3.1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3.2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服务的安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3.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服务器中创建搜索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3.4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其他重要设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6172200"/>
            <a:ext cx="167652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3.1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DNS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的概述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905120" y="2133360"/>
            <a:ext cx="6248160" cy="327636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域名称空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区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域名称服务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查询的模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递归查询、循环查询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区域文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正向或反向搜索区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219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523880" y="1828800"/>
          <a:ext cx="6629400" cy="33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629400" cy="33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905120" y="57150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3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域名称空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38880" y="6172200"/>
            <a:ext cx="129564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3.2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DNS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服务的安装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48360" cy="36576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开始”→“设置”→“控制面板”→“添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删除程序”→“添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删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件”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时选择“网络服务”选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对话框时，请选择“域名服务系统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单击“确定”按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回到前一个对话框时，单击“下一步”按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9096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3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757760" cy="3473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0" y="5334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3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“网络服务”组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2907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3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862520" cy="3741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905120" y="5486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3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“域名服务系统”组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41964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33.21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4876560" cy="46958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785280" y="2514600"/>
            <a:ext cx="1095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3-39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20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客户端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．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DNS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客户端的设置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5053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3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195800" cy="4572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418440" y="1828800"/>
            <a:ext cx="1277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4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 9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服务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6172200"/>
            <a:ext cx="129564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3.3  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在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DNS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服务器中创建搜索区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 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内有两种方向的搜索区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向搜索区域、反向搜索区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 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内，正向或反向搜索区域都支持以下三种区域类型：标准主要区域、标准辅助区域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 Directo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集成的区域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35268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HCP/BOOT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继代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绝大部分网络内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由器不能将广播信息传递到不同的网络区域内，因此，限制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效的使用范围。但是只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由器具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/BOO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继代理的功能，就可以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息转送到其他的网络区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6172200"/>
            <a:ext cx="129564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．建立正向标准主要区域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426744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依次选择“开始”→“程序”→“管理工具”→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S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项，打开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4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对话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正向搜索区域”，选择“新建区域”命令，出现“欢迎使用新建区域向导” 单击“下一步”按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“区域类型”对话框，选择“标准主要区域”单选项，单击“下一步”按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“区域名”对话框时，设置一个名称。单击“下一步”按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93832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3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781680" cy="3022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438280" y="54100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41 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3764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257800" cy="4000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133720" y="5562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4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区域类型选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3764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3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5334120" cy="4059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209680" y="54864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4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区域类型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4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“区域文件”对话框时，单击“下一步”按钮，则先将该文件复制到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root%\system32\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夹内，然后选择“使用此现存文件”单选项来设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“正在完成新建区域向导”对话框时，单击“完成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4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完成后的画面，图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kb.edu.c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刚才所创建的区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3764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257800" cy="40003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057400" y="55627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4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区域类型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3764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3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562720" cy="42321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371600" y="5715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4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在完成新建区域向导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9564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30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934320" cy="33814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057400" y="52578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4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的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kb.edu.cn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区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．新建记录到主要区域内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依次选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开始”→“程序”→“管理工具”→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项，并选择“正向搜索区域”中的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kb.edu.cn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区域后单击鼠标右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弹出快捷菜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根据要新建的记录，在列出的快捷菜单中选择相应的命令。新建主机记录：新建主机的别名：新建邮件交换器：新建主机信息：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65760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31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4572000" cy="4167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47760" y="1600200"/>
            <a:ext cx="911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47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主机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13.1.3 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</a:rPr>
              <a:t>DHCP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服务器的安装与设置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HC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器的安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“开始”→“设置”→“控制面板”→“添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删除程序”→“添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删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件”命令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对话框时，选择“网络服务”后单击“详细信息”按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对话框时，选择“动态主机配置协议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单击“确定”按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回到前一个画面时，单击“下一步”按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14784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38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553080" cy="4032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362320" y="54864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48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建记录的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6338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33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309920" cy="4724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495480" y="1905120"/>
            <a:ext cx="91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4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主机的别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4320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35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4395960" cy="48006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362320" y="6019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5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邮件交换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7432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37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3936960" cy="4343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819520" y="5715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5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建主机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．创建反向标准主要区域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“开始”→“程序”→“管理工具”→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项，单击“反向搜索区域” 选择“新建区域”命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“欢迎使用新建区域向导”对话框时，单击“下一步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5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窗口时，选择“标准主要区域”，然后单击“下一步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5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“反向搜索区域”对话框时，单击“下一步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5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“区域文件”对话框时，单击“下一步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“完成新建区域向导”对话框时，单击“完成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完成后的画面，图中的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2.168.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Subnet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刚才所创建的反向区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3764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30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562720" cy="42336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81080" y="5715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5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新建的区域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49092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31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5257800" cy="4006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057400" y="5562720"/>
            <a:ext cx="55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5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反向搜索区域的名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1338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32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943520" cy="3747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676520" y="5486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5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反向搜索区域的文件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219320" y="54100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55  “192.168.0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Subnet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向搜索区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5740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33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7816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3836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33.1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714920" cy="344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09680" y="4952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3-1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组件”对话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．在反向区域内创建记录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鼠标右键单击“正向搜索区域”中选择“新建主机”命令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鼠标右键单击“反向搜索区域” 中选择“新建指针”命令，在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5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对话框中，输入主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与此主机的完整名称。也可以利用“浏览”按钮到正向区域内选择主机。结果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5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600200" y="5562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5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中“创建相关的指针记录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34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1911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51936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35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548160" cy="39002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752480" y="5715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5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反向搜索区域中的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676520" y="5486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5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反向搜索区域数据的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5740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36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933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．创建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Active Directory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集成区域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236232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 Director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集成区域只能够创建在域控制器内。当在某台域控制器上创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 Director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集成区域后，此区域内的资源记录数据就存储在此台域控制器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 Director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，并会自动被复制到其他的域控制器内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．创建标准辅助区域</a:t>
            </a:r>
            <a:endParaRPr b="1" lang="en-US" sz="3600" spc="-1" strike="noStrike">
              <a:solidFill>
                <a:srgbClr val="3694b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依次选择“开始”→“程序”→“管理工具”→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项，单击“正向搜索区域” 中选择“新建区域”命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“欢迎使用新建区域向导”对话框时，单击“下一步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5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窗口时，选择“标准辅助区域”，然后单击“下一步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“区域名”对话框时，请为此区域设置一个名称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6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对话框时，选择此辅助区域的数据来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，单击“添加”按钮。完成后单击“下一步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出现“完成新建区域向导”对话框时，单击“完成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1338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37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638600" cy="35179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2286000" y="5562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5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“标准辅助区域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1338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38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410080" cy="41022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666880" y="5638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-60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区域名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1338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39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4275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676520" y="57150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6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定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服务器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38880" y="6172200"/>
            <a:ext cx="1295640" cy="368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1:12:38Z</dcterms:created>
  <dc:creator>liwu</dc:creator>
  <dc:description/>
  <dc:language>en-US</dc:language>
  <cp:lastModifiedBy>新人电脑</cp:lastModifiedBy>
  <dcterms:modified xsi:type="dcterms:W3CDTF">2002-01-25T02:49:05Z</dcterms:modified>
  <cp:revision>25</cp:revision>
  <dc:subject/>
  <dc:title>第13章  配置DHCP、WINS和DNS </dc:title>
</cp:coreProperties>
</file>